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6FD-C892-4B3C-BA57-97881D0B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909-BCED-4BF5-A7AE-A07E6388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D36-8959-4776-9BA2-1F491507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770-3D40-427C-A8C8-00F384C6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570-2FB8-4C5A-876C-7319C8EB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7D9-C943-4768-B02F-E56652AC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9FD-44B9-49F8-9AD3-3C526187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43C-1DB9-482B-B8E5-B6B24608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56B-A6DD-4A46-AFDC-240C8E7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593-BD34-4657-8EED-F0D2763B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B2F-8296-479D-A2F3-D4A8203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96E-2C8B-4AEA-A9CC-CC13D3D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712-AC87-492B-9BF7-59FB79AC6D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417680"/>
            <a:ext cx="70725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ιν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τ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υ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κει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ιν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ὑτ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286080" y="2255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286080" y="2747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euter 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3286080" y="3244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286080" y="3728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86080" y="4259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28608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286080" y="52894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3286080" y="5800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422360"/>
            <a:ext cx="707220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ς ἠν ὁ τοπ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κρα τα προβατα του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λος ὁ ὀχλος ἠκου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 ἐκειναις ταις                            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βολαις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προφ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υφλοι εἰσιν οὑτοι οἱ μαθη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22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th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73384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eep of these peopl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29240" y="3730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hole crowd wa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29240" y="427356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is speaking in th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33920" y="5283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prophets are 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811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disciples ar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85840" y="1143000"/>
            <a:ext cx="6072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νουνται ἑαυ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ω ἐκεινον μαθητ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αγει ταυτα τα προβ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διδασκεν ἀλλαις παραβολα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ῃ αὐτῃ ἡμερᾳ ἡ Μαρια ἐβλεψε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αυτα ὁ ὀχλος ἐλαλ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ηλοι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denying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ove that disci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929120" y="3000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gathering thes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929120" y="37321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used to teach in other 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929120" y="44593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the same day Mary s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929120" y="55720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ese things the crowd were saying to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85840" y="1143000"/>
            <a:ext cx="60721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ς ὁ Ἰησους προσηυχ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ηρετης ἠν τουτου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praying to the same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ter himself denied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began to listen after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demons were e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himself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 servant of this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929120" y="2890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χομεθα τῳ αὐτῳ θε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929120" y="34894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ς ὁ Πετρος ἠρνησατο τ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ησου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929120" y="43988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α τουτο ἠρξαντο ἀκουσ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 jus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κουον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929120" y="53132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α τα δαιμονια (ἠ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νηρ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42920" y="1143000"/>
            <a:ext cx="70722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νομος σου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σωζει σ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εις ἐπιστευσαμεν ἀλλα σ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κ ἠκουσ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 σωσεις σεαυτον ἀλλ’ ἐγω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λους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yoursel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proclaim your (pl.) d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643280" y="197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law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643280" y="24861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save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629240" y="297180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believed, but you did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629240" y="401328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save yourself, bu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ll save)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633920" y="498636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ωσον σεαυτ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629240" y="55166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ξω τα ἐργα ὑμω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57120" y="1428840"/>
            <a:ext cx="385776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 ἐπιστευσαν, οἱ γαρ μαθηται εὐηγγελιζ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μεν θεος ἐπεμψεν τους προφητας, τυφλος δε ὁ λα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φιλει και τους πονηρ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believed because (for) the disciples were proclaiming the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643280" y="343548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sent the prophets, but the people wer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657680" y="50385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God love even (the) evil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57120" y="1428840"/>
            <a:ext cx="38577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ωσηφ λεγει αὐτῳ. ὁ δε οὐκ ἀκου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μεν προσερχονται, οἱ δε ὑπαγουσιν εἰς τους οἰκου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we will seek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seph is speaking to him, but he (the other one) will not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643280" y="343548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re approaching, others are departing for their h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657680" y="5011560"/>
            <a:ext cx="41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ησομεν οὐν τον κυρι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1:37:17Z</dcterms:created>
  <dc:creator>Sarah</dc:creator>
  <dc:description/>
  <dc:language>en-US</dc:language>
  <cp:lastModifiedBy>Sarah</cp:lastModifiedBy>
  <dcterms:modified xsi:type="dcterms:W3CDTF">2009-08-09T10:48:38Z</dcterms:modified>
  <cp:revision>39</cp:revision>
  <dc:subject/>
  <dc:title>Slide 1</dc:title>
</cp:coreProperties>
</file>